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8C2-0AAB-4622-AE0E-A61DD9F7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F03-38C8-4B49-9DAE-C63DAF30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964-F588-4BF7-9FED-2D959F4F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34C-4FA6-48C0-88A5-E2D45228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E7C-CDDA-4325-A198-D4AEAB3E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60D-1C3E-41CE-8B1E-73C2272F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1FC-90E3-4BC8-AF7E-AD27731A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1FA-F308-4C1B-A91D-E86CE4C9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6DC-E805-41B9-BCE3-BCAFB0C0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711-ADE2-46D4-AC41-687EAD2F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B3B-034D-4D81-969C-FECFA0B8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520-3E06-4354-AD88-AA82016A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60B2-C51A-447B-A028-6EB765D96F4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XI Ogólnopolskie Warsztaty JHP BN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3-5 czerwca 2009 r.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Opracowanie przedmiotowe zbiorów Czytelni Varsavianów Biblioteki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ublicznej m.st. Warszawy </a:t>
            </a:r>
            <a:br>
              <a:rPr sz="4000"/>
            </a:br>
            <a:br>
              <a:rPr sz="2000"/>
            </a:b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Ewa Grądziel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(Biblioteka Publiczna m.st. Warszaw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428760" y="857160"/>
            <a:ext cx="8124840" cy="52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Brok : Eugeniusz Lokajski 1908-1944 : fotore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/ [koncepcja całości i oprac. merytoryczne Dorota Niemczyk]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- Warszawa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tografia polska - 1939-1945 r. - alb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1944 r. warszawskie - ikon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okajski, Eugeniusz (1908-1944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alb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tografia polska - 1939-1945 r. - alb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1944 r. warszawskie - ikon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571680" y="1428840"/>
            <a:ext cx="74293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u="sng">
                <a:solidFill>
                  <a:srgbClr val="000000"/>
                </a:solidFill>
                <a:uFillTx/>
                <a:latin typeface="Arial"/>
              </a:rPr>
              <a:t>Hasło geograficz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ematami geograficznymi są nazwy odnoszące się do jednostek geograficzny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357120" y="785880"/>
            <a:ext cx="8336160" cy="53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ołębie powstańczej Warszawy : legenda / Jadwiga Stabińska. - Ząbki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enedyktynki Sakramentki - Polska - 1939-1945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1944 r. warszaws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enedyktynki Sakramentki - Polska - 1939-1945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1944 r. warszaws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 - klasztor sakramente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1939-1945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35600" y="1071720"/>
            <a:ext cx="778392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Wawer i jego osie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/ pod red. Jana Czerniawskiego. - Warszawa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rzchowski, Henryk (1904-1994) - księga pamiąt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 - Wawe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rzchowski, Henryk (1904-1994) - księga pamiąt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 - Anin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 - Marysin Wawersk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 - Międzylesi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 - Wawe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24000" y="361800"/>
            <a:ext cx="84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L Warschau – obóz zagłady dla Polaków w świetle dokumentów : raport dla Prezesa Instytutu Pamięci Narodowej, na potrzeby szkół i budowy Pomnika Ofiar Obozu KL Warschau / Maria Trzcińska. - Radom,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udobójstwo - Niemcy - 1933-1945 r. - źród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ledztwo i dochodzenie - Polska - od 1944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bozy hitlerowsk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źród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udobójstwo - Niemcy - 1933-1945 r. - źród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i - projekty - Polska - od 198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ledztwo i dochodzenie - Polska - od 1944 r. - źród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 - obozy hitlerowsk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źród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 -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mnik Ofiar KL Warscha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pro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44520" y="857160"/>
            <a:ext cx="8294400" cy="52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isma wybrane. T. 2, 1958-1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/ Władysław Bartoszewski. - Kraków, cop.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ublicystyka polska - 956-198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jna 1939-1945 r. - Polska - publicyst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ublicystyka polska - 956-198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jna 1939-1945 r. - Polska - publicyst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dawnictwa nielegalne - historia - Polska - 1939-1945 r. - publicysty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 -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1939-1945 r. - publicysty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64400" y="571680"/>
            <a:ext cx="810864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Warszawa listopad 1918 / Lech Wyszczelski. - Warszaw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p.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1914-191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łsudski, Józef (1867-19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lska Organizacja Wojs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nferencja paryska (1919-19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uchy społeczne - Polska - 1914-191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1914-1918 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 -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1918-193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31640" y="285840"/>
            <a:ext cx="744732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W Aninie / Roman Nowoszewski. - Warszawa, [2007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ezja polska - 21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ezja polska - 21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ni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beletryst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27320" y="3429000"/>
            <a:ext cx="7642080" cy="32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Znak niejasny, baśń półżyw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/ Jarosław Marek Rymkiewic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- Warszawa, 199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ezja polska - 20 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ezja polska - 20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lanówek (woj. mazowieckie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beletryst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10200" y="1571760"/>
            <a:ext cx="634068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zaszka w rondlu czyli Opowiadania sądow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/ Wiech Stefan Wiechecki. - Kraków, 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owiadanie polskie - 20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owiadanie polskie - 20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beletry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1138680" y="357120"/>
            <a:ext cx="67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datkowe informac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hasłach korporatywnych – adre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iedzib instytu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075400" y="2143080"/>
            <a:ext cx="514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szawa - pałac Arcybiskupów Warszawsk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szawa 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lica Miodowa 17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szawa - pałac Błękit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szawa 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lica Senatorska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szawa - pałac Biskupów Krakowsk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szawa 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lica Miodow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szawa - pałac Urusk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szawa 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lica Krakowskie Przedmieście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szawa - pałac Radziwiłł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szawa 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lica Długa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Wykres 2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Wykres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ole tekstowe 3"/>
          <p:cNvSpPr/>
          <p:nvPr/>
        </p:nvSpPr>
        <p:spPr>
          <a:xfrm>
            <a:off x="4005360" y="35719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2504880" y="2786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ole tekstowe 5"/>
          <p:cNvSpPr/>
          <p:nvPr/>
        </p:nvSpPr>
        <p:spPr>
          <a:xfrm>
            <a:off x="3201840" y="20718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ole tekstowe 1"/>
          <p:cNvSpPr/>
          <p:nvPr/>
        </p:nvSpPr>
        <p:spPr>
          <a:xfrm>
            <a:off x="4021200" y="5500800"/>
            <a:ext cx="44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ę za uwagę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Wykres 2"/>
          <p:cNvGraphicFramePr/>
          <p:nvPr/>
        </p:nvGraphicFramePr>
        <p:xfrm>
          <a:off x="863640" y="1390680"/>
          <a:ext cx="750564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Wykres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90680"/>
                    <a:ext cx="750564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ole tekstowe 2"/>
          <p:cNvSpPr/>
          <p:nvPr/>
        </p:nvSpPr>
        <p:spPr>
          <a:xfrm>
            <a:off x="3862440" y="31431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3"/>
          <p:cNvSpPr/>
          <p:nvPr/>
        </p:nvSpPr>
        <p:spPr>
          <a:xfrm>
            <a:off x="2504880" y="41432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2f2f2"/>
                </a:solidFill>
                <a:latin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2290680" y="2643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5"/>
          <p:cNvSpPr/>
          <p:nvPr/>
        </p:nvSpPr>
        <p:spPr>
          <a:xfrm>
            <a:off x="3018960" y="1500120"/>
            <a:ext cx="3250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rekta merytoryczna zbio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u="sng">
                <a:solidFill>
                  <a:srgbClr val="000000"/>
                </a:solidFill>
                <a:uFillTx/>
                <a:latin typeface="Arial"/>
              </a:rPr>
              <a:t>Hasło korporatywne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Hasło korporatywne to hasło zawierające nazwę  ciała zbiorowego, występujące pod własną nazwą jednoznacznie je identyfikując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Radzymińscy żołnierze Armii Krajowej / Mieczysław Chojnacki ps. "Młodzik". - Radzymin, 2007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mia Kraj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biografie - słowni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dzymin (woj. mazowieckie, pow. Wołomin ; okręg) - biografie - 1939-1945 r. - słownik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mia Krajowa. Obwód Radzymi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biografie - słowni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dzymin (woj. mazowieckie, pow. Wołomin ; okręg) - biografie - 1939-1945 r. - słownik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6348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 flipH="1">
            <a:off x="631800" y="281160"/>
            <a:ext cx="134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62520" y="714240"/>
            <a:ext cx="7800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Dziennik powstańczy 1944 / Teresa Potulicka-Łatyńs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Warszawa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tulicka-Łatyńska, Teresa (1925- ) - pamiętniki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mia Krajo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pamiętniki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miętniki polskie - 1939-1945 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1944 r. warszawskie - pamięt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tulicka-Łatyńska, Teresa (1925- ) - pamiętnik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mia Krajowa. Batalion „Wigry”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pamięt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miętniki polskie - 1939-1945 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1944 r. warszawskie - pamiętnik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rszawa - 1939-1945 r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pamięt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324000" y="204480"/>
            <a:ext cx="8640720" cy="68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Bohaterowie dwóch miast / Juliusz Kulesza. - Warszaw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rmia Krajo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bi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ziemie polityczne i zbrojne (1944-1956) - biografie - Po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ęźniowie polityczni - biografie - Polska - 1944-1956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óra Kalwaria (woj. Mazowieckie) - 1939-1945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arszawa - 1939-1945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ąk (rodz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rmia Krajowa. Batalion „Pięść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rmia Krajowa. Komenda Główna. Wydział Bezpieczeństwa i Kontrwywiadu. Oddział 993/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rmia Krajowa. Ośrodek Góra Kalw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ziemie polityczne i zbrojne (1944-1956) - biografie - Po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ęźniowie polityczni - biografie - Polska - 1944-1956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óra Kalwaria (woj. Mazowieckie) - 1939-1945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arszawa - 1939-1945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28760" y="928800"/>
            <a:ext cx="8175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u="sng">
                <a:solidFill>
                  <a:srgbClr val="000000"/>
                </a:solidFill>
                <a:uFillTx/>
                <a:latin typeface="Arial"/>
              </a:rPr>
              <a:t>Hasło osobo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asło osobowe to hasło, którego jedyną lub pierwszą częścią jest nazwa osobowa, tzn. nazwa własna identyfikująca daną osobę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14200" y="357120"/>
            <a:ext cx="8553600" cy="68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Opuszczeni bohaterowie Powstania Warszawski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/ tekst Władysław Bartoszewski ; fot. Adam Bujak. - Kraków,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zeum Powstania Warszawskiego - zbiory - alb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1944 r. warszawskie - pamiątki - zbi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szawa - muzealnictwo - zbi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ujak Adam (1942- 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lb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zeum Powstania Warszawskiego - zbiory - alb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wstanie 1944 r. warszawskie - ikon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1944 r. warszawskie - pamiątki - zbi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szawa - muzealnictwo - zbi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1:07:24Z</dcterms:created>
  <dc:creator>Sokalski</dc:creator>
  <dc:description/>
  <dc:language>en-US</dc:language>
  <cp:lastModifiedBy>ppp</cp:lastModifiedBy>
  <dcterms:modified xsi:type="dcterms:W3CDTF">2009-06-02T19:53:22Z</dcterms:modified>
  <cp:revision>28</cp:revision>
  <dc:subject/>
  <dc:title>     Ewa Grądziel Opracowanie przedmiotowe zbiorów Czytelni Varsavianów Biblioteki  Publicznej m.st. Warszawy </dc:title>
</cp:coreProperties>
</file>